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0A-5CA8-40E4-8C61-8CCC638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93D-5A57-4AC0-9489-5C122B22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8CC-628F-4505-B3B0-BE581D3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8B1-C550-4580-9D1F-50132D14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505-1C85-47D6-BEED-D5948188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84E-7A86-49B5-98BD-21AAF6E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712-7D15-4A6F-BFB6-723ECADF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82F-B19B-4069-BBD4-D22472AE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E50-8CFD-468B-A5B0-1EA6C53F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017-1CED-4E2F-93B0-CA6BD0D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A57-CE70-4697-AA06-3C870AB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DE8-A01A-434B-96D9-C3135E2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613-C64E-4184-8360-9BD0BC2CB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42840" y="-23760"/>
            <a:ext cx="9205920" cy="69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1"/>
          <p:cNvSpPr/>
          <p:nvPr/>
        </p:nvSpPr>
        <p:spPr>
          <a:xfrm>
            <a:off x="1219320" y="1066680"/>
            <a:ext cx="738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ngl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e stator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ngle-phase power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quire device to start 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3 to 4 HP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ousehold appliances: fans, washing machines, dryers, mixers , wet grinders 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1447920" y="1066680"/>
            <a:ext cx="687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e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hree-phase supply produces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or w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elf-sta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1/3 to hundreds HP applications: pumps, compressors, conveyor belts, gr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70% of motors in indust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66680" y="2133720"/>
            <a:ext cx="698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 single phase loads equally among three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gregate single phase loads and feed them into separate line/trans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295280" y="1096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mprove Pow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609480" y="228600"/>
            <a:ext cx="82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 and 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y loa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4960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1481040" y="76212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Losses in induction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609480" y="762120"/>
            <a:ext cx="8077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25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s that influenc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380880" y="380880"/>
            <a:ext cx="6121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tor part loa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signed for 50-10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st efficient at 75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apid drop below 5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0" t="0" r="0" b="27917"/>
          <a:stretch/>
        </p:blipFill>
        <p:spPr>
          <a:xfrm>
            <a:off x="3048120" y="27432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1219320" y="1600200"/>
            <a:ext cx="69847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spect motors regularly for wear, dirt/d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ing motor loads for over/under lo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ubricate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 alignment of motor and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rovide proper vent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95280" y="10666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295280" y="9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peed Control of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00200" y="1981080"/>
            <a:ext cx="72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speed drives (VS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be installed in exis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speed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600200" y="3962520"/>
            <a:ext cx="72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ound rotor motor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resistors to control torqu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1828800" y="42660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371600" y="1447920"/>
            <a:ext cx="745164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mechanical device that converts electrical energy to mechan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chanical energy used to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otate pump impeller, fan, b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rive comp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f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838080" y="304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How Does an Electric Moto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D:\USER\GARNAIK\How a motor works_files\mothow.gif"/>
          <p:cNvPicPr/>
          <p:nvPr/>
        </p:nvPicPr>
        <p:blipFill>
          <a:blip r:embed="rId1"/>
          <a:stretch/>
        </p:blipFill>
        <p:spPr>
          <a:xfrm>
            <a:off x="914400" y="1246320"/>
            <a:ext cx="6753240" cy="54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752480" y="3808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assification of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5"/>
          <p:cNvGrpSpPr/>
          <p:nvPr/>
        </p:nvGrpSpPr>
        <p:grpSpPr>
          <a:xfrm>
            <a:off x="870120" y="1600200"/>
            <a:ext cx="7435800" cy="4495680"/>
            <a:chOff x="870120" y="1600200"/>
            <a:chExt cx="7435800" cy="4495680"/>
          </a:xfrm>
        </p:grpSpPr>
        <p:sp>
          <p:nvSpPr>
            <p:cNvPr id="48" name="AutoShape 86"/>
            <p:cNvSpPr/>
            <p:nvPr/>
          </p:nvSpPr>
          <p:spPr>
            <a:xfrm>
              <a:off x="870120" y="1600200"/>
              <a:ext cx="74358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7"/>
            <p:cNvSpPr/>
            <p:nvPr/>
          </p:nvSpPr>
          <p:spPr>
            <a:xfrm>
              <a:off x="3478680" y="1600200"/>
              <a:ext cx="2543760" cy="614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ctric Moto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8"/>
            <p:cNvSpPr/>
            <p:nvPr/>
          </p:nvSpPr>
          <p:spPr>
            <a:xfrm>
              <a:off x="1325880" y="2773440"/>
              <a:ext cx="254376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ernating Current (A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9"/>
            <p:cNvSpPr/>
            <p:nvPr/>
          </p:nvSpPr>
          <p:spPr>
            <a:xfrm>
              <a:off x="5566320" y="2773440"/>
              <a:ext cx="228348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rect Current (D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0"/>
            <p:cNvSpPr/>
            <p:nvPr/>
          </p:nvSpPr>
          <p:spPr>
            <a:xfrm>
              <a:off x="870120" y="4280760"/>
              <a:ext cx="156600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nchron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1"/>
            <p:cNvSpPr/>
            <p:nvPr/>
          </p:nvSpPr>
          <p:spPr>
            <a:xfrm>
              <a:off x="2760840" y="4280760"/>
              <a:ext cx="137016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2"/>
            <p:cNvSpPr/>
            <p:nvPr/>
          </p:nvSpPr>
          <p:spPr>
            <a:xfrm>
              <a:off x="2542320" y="5622480"/>
              <a:ext cx="15890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3"/>
            <p:cNvSpPr/>
            <p:nvPr/>
          </p:nvSpPr>
          <p:spPr>
            <a:xfrm>
              <a:off x="870120" y="5622480"/>
              <a:ext cx="15768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gl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4"/>
            <p:cNvSpPr/>
            <p:nvPr/>
          </p:nvSpPr>
          <p:spPr>
            <a:xfrm>
              <a:off x="69357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lf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5"/>
            <p:cNvSpPr/>
            <p:nvPr/>
          </p:nvSpPr>
          <p:spPr>
            <a:xfrm>
              <a:off x="46533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parately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6"/>
            <p:cNvSpPr/>
            <p:nvPr/>
          </p:nvSpPr>
          <p:spPr>
            <a:xfrm>
              <a:off x="465336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7"/>
            <p:cNvSpPr/>
            <p:nvPr/>
          </p:nvSpPr>
          <p:spPr>
            <a:xfrm>
              <a:off x="732672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AutoShape 98"/>
            <p:cNvCxnSpPr>
              <a:stCxn id="49" idx="2"/>
              <a:endCxn id="50" idx="0"/>
            </p:cNvCxnSpPr>
            <p:nvPr/>
          </p:nvCxnSpPr>
          <p:spPr>
            <a:xfrm rot="5400000">
              <a:off x="3394800" y="1417680"/>
              <a:ext cx="559080" cy="2153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99"/>
            <p:cNvCxnSpPr>
              <a:stCxn id="49" idx="2"/>
              <a:endCxn id="51" idx="0"/>
            </p:cNvCxnSpPr>
            <p:nvPr/>
          </p:nvCxnSpPr>
          <p:spPr>
            <a:xfrm flipH="1" rot="16200000">
              <a:off x="5450400" y="1515240"/>
              <a:ext cx="559080" cy="19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00"/>
            <p:cNvCxnSpPr>
              <a:stCxn id="50" idx="2"/>
              <a:endCxn id="52" idx="0"/>
            </p:cNvCxnSpPr>
            <p:nvPr/>
          </p:nvCxnSpPr>
          <p:spPr>
            <a:xfrm rot="5400000">
              <a:off x="1856160" y="3538440"/>
              <a:ext cx="539280" cy="945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01"/>
            <p:cNvCxnSpPr>
              <a:stCxn id="50" idx="2"/>
              <a:endCxn id="53" idx="0"/>
            </p:cNvCxnSpPr>
            <p:nvPr/>
          </p:nvCxnSpPr>
          <p:spPr>
            <a:xfrm flipH="1" rot="16200000">
              <a:off x="2752560" y="3586320"/>
              <a:ext cx="539280" cy="8492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2"/>
            <p:cNvCxnSpPr>
              <a:stCxn id="53" idx="2"/>
              <a:endCxn id="54" idx="0"/>
            </p:cNvCxnSpPr>
            <p:nvPr/>
          </p:nvCxnSpPr>
          <p:spPr>
            <a:xfrm rot="5400000">
              <a:off x="2957400" y="5133600"/>
              <a:ext cx="867960" cy="11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103"/>
            <p:cNvCxnSpPr>
              <a:stCxn id="53" idx="2"/>
              <a:endCxn id="55" idx="0"/>
            </p:cNvCxnSpPr>
            <p:nvPr/>
          </p:nvCxnSpPr>
          <p:spPr>
            <a:xfrm rot="5400000">
              <a:off x="2117880" y="4294080"/>
              <a:ext cx="867960" cy="178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04"/>
            <p:cNvCxnSpPr>
              <a:stCxn id="51" idx="2"/>
              <a:endCxn id="57" idx="0"/>
            </p:cNvCxnSpPr>
            <p:nvPr/>
          </p:nvCxnSpPr>
          <p:spPr>
            <a:xfrm rot="5400000">
              <a:off x="5753880" y="3326400"/>
              <a:ext cx="539280" cy="1369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105"/>
            <p:cNvCxnSpPr>
              <a:stCxn id="51" idx="2"/>
              <a:endCxn id="56" idx="0"/>
            </p:cNvCxnSpPr>
            <p:nvPr/>
          </p:nvCxnSpPr>
          <p:spPr>
            <a:xfrm flipH="1" rot="16200000">
              <a:off x="6895440" y="3553920"/>
              <a:ext cx="539280" cy="913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106"/>
            <p:cNvCxnSpPr>
              <a:stCxn id="56" idx="2"/>
              <a:endCxn id="58" idx="0"/>
            </p:cNvCxnSpPr>
            <p:nvPr/>
          </p:nvCxnSpPr>
          <p:spPr>
            <a:xfrm rot="5400000">
              <a:off x="6125400" y="4126680"/>
              <a:ext cx="514080" cy="24782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7"/>
            <p:cNvCxnSpPr>
              <a:stCxn id="56" idx="2"/>
              <a:endCxn id="59" idx="0"/>
            </p:cNvCxnSpPr>
            <p:nvPr/>
          </p:nvCxnSpPr>
          <p:spPr>
            <a:xfrm flipH="1" rot="16200000">
              <a:off x="7461720" y="5267520"/>
              <a:ext cx="514080" cy="19620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Text Box 108"/>
            <p:cNvSpPr/>
            <p:nvPr/>
          </p:nvSpPr>
          <p:spPr>
            <a:xfrm>
              <a:off x="5828400" y="5622480"/>
              <a:ext cx="13478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09"/>
            <p:cNvCxnSpPr>
              <a:stCxn id="56" idx="2"/>
              <a:endCxn id="70" idx="0"/>
            </p:cNvCxnSpPr>
            <p:nvPr/>
          </p:nvCxnSpPr>
          <p:spPr>
            <a:xfrm rot="5400000">
              <a:off x="6803640" y="4806000"/>
              <a:ext cx="515160" cy="111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"/>
          <p:cNvSpPr/>
          <p:nvPr/>
        </p:nvSpPr>
        <p:spPr>
          <a:xfrm>
            <a:off x="1143000" y="1752480"/>
            <a:ext cx="7524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orth pole and south p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ceive electricity to form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ylinder between the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lectromagnet when current goes through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nked to drive shaft to drive the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verturns current direction in arm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C Motors –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"/>
          <p:cNvSpPr/>
          <p:nvPr/>
        </p:nvSpPr>
        <p:spPr>
          <a:xfrm>
            <a:off x="1295280" y="1600200"/>
            <a:ext cx="745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ant speed fixed by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 for excitation and low starting torque: suited for low lo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improve power factor: suited for high electricity u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chronous speed (N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47920" y="76212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Synchronous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81080" y="5638680"/>
            <a:ext cx="2519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Ns = 120 f /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9528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 = supp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mber of 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1908000" y="2367000"/>
            <a:ext cx="6985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st common motors i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mp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to weight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asy to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connection to AC power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3320" y="14842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6"/>
          <p:cNvSpPr/>
          <p:nvPr/>
        </p:nvSpPr>
        <p:spPr>
          <a:xfrm>
            <a:off x="1066680" y="1600200"/>
            <a:ext cx="5977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: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onducting bars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 parallel s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rotor: 3-phase, double-layer, distributed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6212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0" descr="abbf2"/>
          <p:cNvPicPr/>
          <p:nvPr/>
        </p:nvPicPr>
        <p:blipFill>
          <a:blip r:embed="rId1"/>
          <a:stretch/>
        </p:blipFill>
        <p:spPr>
          <a:xfrm>
            <a:off x="4419720" y="1725480"/>
            <a:ext cx="4592520" cy="223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1"/>
          <p:cNvSpPr/>
          <p:nvPr/>
        </p:nvSpPr>
        <p:spPr>
          <a:xfrm>
            <a:off x="1219320" y="5105520"/>
            <a:ext cx="723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tampings with slots to carry 3-phase w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for definite number of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1066680" y="685800"/>
            <a:ext cx="70567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w induction moto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 supplied to st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gnetic field generated that moves ar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urrent induced in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029200" y="2743200"/>
            <a:ext cx="3962160" cy="3885840"/>
            <a:chOff x="5029200" y="2743200"/>
            <a:chExt cx="3962160" cy="3885840"/>
          </a:xfrm>
        </p:grpSpPr>
        <p:pic>
          <p:nvPicPr>
            <p:cNvPr id="86" name="Picture 14" descr="D:\USER\GARNAIK\Reliance Electric - Basic Motor Theory_files\mtfig8.gif"/>
            <p:cNvPicPr/>
            <p:nvPr/>
          </p:nvPicPr>
          <p:blipFill>
            <a:blip r:embed="rId1"/>
            <a:stretch/>
          </p:blipFill>
          <p:spPr>
            <a:xfrm>
              <a:off x="5029200" y="2743200"/>
              <a:ext cx="3962160" cy="3885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87" name="Text Box 15"/>
            <p:cNvSpPr/>
            <p:nvPr/>
          </p:nvSpPr>
          <p:spPr>
            <a:xfrm>
              <a:off x="6437520" y="2765520"/>
              <a:ext cx="1642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mag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6431400" y="6191640"/>
              <a:ext cx="9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t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7530480" y="5728320"/>
              <a:ext cx="816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R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990720" y="3733920"/>
            <a:ext cx="38876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produces second magnetic field that opposes stator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begins to ro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4:20:03Z</dcterms:created>
  <dc:creator/>
  <dc:description>Electrical Projects</dc:description>
  <dc:language>en-US</dc:language>
  <cp:lastModifiedBy>Brigade</cp:lastModifiedBy>
  <dcterms:modified xsi:type="dcterms:W3CDTF">2011-08-24T09:12:24Z</dcterms:modified>
  <cp:revision>0</cp:revision>
  <dc:subject>Electrical Projects</dc:subject>
  <dc:title>EEE IEEE Projects</dc:title>
</cp:coreProperties>
</file>